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BB9-FB7A-4205-AE8E-186E7915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43E-9CDB-4C64-9486-EEF4942C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1AB8C-FBDA-42D7-A75D-4F23E229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125E9-BC43-4CEB-861D-59E7F68A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6C6D4-424B-419B-981C-139B6114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6EB16-E367-49E9-B10B-A443B5D9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FFB05-FE92-41D9-AD01-78AAE1E1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7B343-870D-4C49-8D74-CD1D6392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D17F4-D3BD-48A1-96BF-1F005E8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F3A76-1F87-4B8B-87FD-726D031A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458DF-EC21-499D-BF84-A09E3DD1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5A969-D09B-41A3-B798-39F493AA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268-D735-4F89-8508-BDB1F67E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481F8-BEA1-457D-AB94-03DE6DF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2C45A-8298-4C3B-911D-01F13CF0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4A925-0AA5-44EE-9B17-928B3091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BB147-5ABE-40D5-8836-A5799899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550B4-8948-4A0A-A48D-4F3201A3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B50C4-8265-451B-AE20-9849368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5A23C-4B59-48FF-84B6-EDFC1E9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1284A-2ADF-44C9-83D2-2F796845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FA9CF-07A1-4776-A34C-B45A0B28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764EC-9E9C-4480-B6D1-2750B4F4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A2B-3ACC-4E74-9F7C-81F4F314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5EEFF-E0C3-421D-A3CB-E1A7AB64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39F-622E-4B94-A55F-BB08FC76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AE4F-7C60-40EA-AC80-3A30FDAD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224-33EE-48B7-8544-C17C92E8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DD81-1FE5-40B9-8B3D-A013D53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623A-BE0A-47CE-A3DC-59627B9F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0E9E-99B2-4C0E-B720-7A5B0E6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81E7-625A-47FD-9174-4C058B47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444-6937-4AA1-96D9-5E0E545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5461-2A0B-444F-BC8F-581B5EF2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4EC5-26DD-4C69-801A-5C1AB14D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7C42-FE80-4280-837A-23E7BB78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6093-BE00-46D6-BA7C-0C3F8AB6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CB89-33DB-4990-99FF-8BE70A48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4CA9-093C-4BEB-97F4-60F5EF12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4D93-F58F-420B-85DC-449D895D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E1DC2-F204-4C16-99CA-CD4F48DE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9EF9-9995-4E2D-A2A0-9D2F238A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0733-739D-46D5-97FA-679034F7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213-8385-4030-9728-EA915574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0D07-952B-4539-8816-D4DB6DA9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1CCE-4B55-4437-8DFF-9ADF8D6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A697-3031-4BF9-9B87-A46C60D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9C34-A621-43ED-B75F-8432582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1DF3-9333-4F6B-BE8F-C7622015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F8D9-807E-4BFE-B455-FE2DE256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DCF7-0E42-4E74-9AF1-A201E9B2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27EDE-886D-4FA6-8845-EAD09D53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EE1B-670C-461E-9F61-9DE7324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91B5-F100-471C-AC9B-26154883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4FA-7268-49F0-A410-FE9EA9E2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5111D-1666-4A52-8294-262A0D84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93E1-F820-47A7-9F33-135D574F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50A0-E6C8-4DF0-8844-3552E945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B3F47-6D35-4D80-A4EC-75840C90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B424-65CE-472B-A2BA-83D15A2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7A81-ED1F-4058-AFED-1BD7A819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DCDE-2146-4307-9594-C401C81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47A1-9383-4330-B601-1D9CB4D2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040A7-1DE7-472C-A762-DA820DAB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9E0A6-B6DB-4114-AFB1-4234130D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052-362D-4510-9F30-C7A7385A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D30C-14D6-4385-AB51-E7671E63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EEB9E-208F-4724-833A-9DC0C159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8CD9D-02A5-4437-A560-954C9823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01483-C265-4B86-9AE1-AC2AAAC6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0BEB3-0D04-4EA0-8347-C9C2DE1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AAFE-DD1F-494E-A3E0-71A0DAB1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7FAF-8E74-4617-A07C-6E35E54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25D3-CB7C-433F-81F4-FC9D5E6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2B5A-5EBC-47D8-9F81-F95D55DD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920A-EEE8-4566-9826-65657EFA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2C3-BBCF-44BE-B43D-9C1D807B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77F4A-C0DA-4D69-BF33-AD5F1FE5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88E5-FFFB-428D-8853-4B2CEC12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71CD-331C-43CD-A956-103ED871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AA78-D193-45EC-A89A-E776A43B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7FDAA-407C-4A8C-89AC-978DBB8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1DD57-016B-4CFC-BCC2-A9977835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9CA14-3CDF-41E4-B232-D79497EC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8E562-360B-40BE-ACDB-49605E1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4C4B4-A0CA-4351-8371-73E7840C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38564-B78C-424A-B731-9DEAD9AC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EF9-BEF6-4A8A-AD17-27781D51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41E4-8849-4A9E-BB43-805E4BF7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74106-5308-4B53-8F0D-93101111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A3F7-E717-4A99-B512-22B73462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1E418-1827-496B-B3F9-0AD67D08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D878-F398-44D7-8948-27F3D145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8A1D-8175-4722-8849-BCF2D639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86EC1-C115-45C6-8125-F8E80556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D7673-904A-4C5F-9A36-7C59D676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7B694-53C8-4032-947B-5EB30F02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8540-A050-48E1-8295-4DCFEF9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A5C-1E08-47D1-ABBE-FA2B869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DA72A-3CD9-40C3-B173-3014B65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D1EE3-5701-4C69-A2A6-1BDE4A8B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ACCB-8F7C-4D31-BD8F-F76C7EC4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65CA5-BCC8-454C-9665-2E39158C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B21B9-A940-47CB-9019-CBA14666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ADF9-D987-4DE0-A3F2-F3CEC1BA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17753-2976-4F27-B89E-A383F73F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B72DC-0E24-45C4-A34A-5E42D2E6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D255-1E9B-45C8-8813-525A1AC5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05003-C29B-431B-B32F-4D8B554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893-EE18-4A7A-A6DA-6F35300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8188D-EE8D-4273-A147-1115CE34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D2450-4877-4FE9-A281-46EDD1F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0C7A-ACB2-4F4B-8091-CA33763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24C9-5438-418B-BC40-CF9AAC99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0E02-BC9B-4F61-8821-BDB8E577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EB24A-54A8-402C-98B3-3B08C41F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D2AE7-F018-4BA2-808A-D30FB5C2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14990-A1CF-4EC5-9765-73ADF8E8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7686F-3748-4D01-A2C6-CC24D25A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18786-6494-4029-B71E-06D3182B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8D0F-C60F-420F-9757-5760724B4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9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F073-9E40-45B0-B0CA-461A4C17DB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2DA3-A89F-4AD0-BEA4-058EF372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7D99-EA2C-4A07-B757-A894F8854E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33F9-EEF7-4B7F-8121-26A00B44CA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28A2-02D4-4315-BCC9-CF8D5D13D7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2E9B-FF4E-411F-B09E-7621BC8BEF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E644-B076-4F27-B1D7-174AE455CC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F827-1849-44EE-99ED-059DD1BD6F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DECB-BD93-417F-8793-83CA2DDCD6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Mario Ragusa, Alex Huynh, and Fiona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s/Solution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d and fish are both found in South Eastern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l is a major resource and is found in the cold parts of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 is one of the leading oil produc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ssia has increased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4687920" y="1828800"/>
            <a:ext cx="3998880" cy="4038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t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exports petroleum, natural gas, wood and met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15T14:22:00Z</dcterms:modified>
  <cp:revision>5</cp:revision>
  <dc:subject/>
  <dc:title>Russia’s Economy</dc:title>
</cp:coreProperties>
</file>